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8DF-B56F-45B8-8533-4BA4137E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F8C-636D-4660-8DED-B147DA8E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CB0-94A0-4D77-8760-022344D7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98B-544B-4FDA-9FDC-36DA2825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615D-D6E6-4B65-8797-0661EE2B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6DF4-4CE4-4818-B56C-5348A423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E240-E990-4EDF-9FB0-81BBDD6E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78D-DD82-47AC-A592-2F870AD1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FB2-D942-48E2-AB36-C876AC6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9C55-9A62-4D7C-88F1-15399F83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470D-56B2-4264-934D-0518BB4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16A-0848-4334-8441-2F134D5C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570-7B07-4027-88B5-6C02F3CD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D39E-1341-42DD-99FA-B6D0407D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C11A-A6C3-452C-B1F9-E223603D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3686-8B4C-45F9-ADD0-9C354E60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382-7DE8-4A8F-9759-602E01D0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FE2-D561-4EB3-B6D5-2487F07F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A1D-4AD9-4539-9264-1BF7F42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418-7062-4258-B494-C4077E89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C54-1DB7-4EE3-B705-F80EF8A9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2A-4BC2-45E3-AD08-75E2770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57E-EF83-4D92-9232-9EDFDB1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2A4-4C85-48C2-852C-9F57157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B86C-771C-4590-978D-2B114405370B}" type="slidenum"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CF0-6EC7-4721-BAD1-12BFAE7D20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Qué es un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Qu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 es un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 Web de construcción colec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 de Editar (no es necesario conocer programación, basta con saber manejar un procesador de text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mite incluir texto, imagen, archivos, video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ructurado por usuarios (permis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49400" y="1828800"/>
            <a:ext cx="524520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7920" y="2666880"/>
            <a:ext cx="9144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8560" y="22575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6640" y="240048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Índice Tem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7160" y="355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1676520"/>
            <a:ext cx="609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640" y="1371600"/>
            <a:ext cx="23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os de control (Histo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733920" y="1676520"/>
            <a:ext cx="3045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560" y="1409760"/>
            <a:ext cx="236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cusiones, Foros de Deb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1523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19880" y="1295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ág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858000" y="2437920"/>
            <a:ext cx="4572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1640" y="3200400"/>
            <a:ext cx="184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editar las pág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88960" y="1828800"/>
            <a:ext cx="6164280" cy="426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4952520" y="2285640"/>
            <a:ext cx="129564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53120" y="3924360"/>
            <a:ext cx="272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a barra de edición, es el ele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ue nos permitirá añadir text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otos, videos, archivos, etc.; as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o gestionar cambi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odificaci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Anatom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a de una Wik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619760" cy="55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2743200"/>
            <a:ext cx="76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25909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09880" y="2362320"/>
            <a:ext cx="1526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72000" y="35049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9051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6560" y="407664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ertar videos, páginas web, archivos onlin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entaciones power point onl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99000" y="1943280"/>
            <a:ext cx="175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ar nue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bajo o los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iz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3720" y="1447920"/>
            <a:ext cx="20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visualizar los cam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ntes de gra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6320" y="2057400"/>
            <a:ext cx="19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ablecer hipervíncu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6640" y="2133720"/>
            <a:ext cx="200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lección y mod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fuentes: tipo de le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amaño, col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8954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80560" y="2629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3505320"/>
            <a:ext cx="9144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93000" y="4762440"/>
            <a:ext cx="511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bir e insertar videos, archivos, fotos… desde nuestro ordena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tal manera que este contenido será subido a la red y grabado 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uestra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¿C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mo crear nuestra Wik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ikis gratuitas y sin publicidad para educac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48320" y="1900080"/>
            <a:ext cx="37335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0:34:32Z</dcterms:created>
  <dc:creator>Usuario de Office 2004 Test Drive</dc:creator>
  <dc:description/>
  <dc:language>en-US</dc:language>
  <cp:lastModifiedBy>Usuario de Office 2004 Test Drive</cp:lastModifiedBy>
  <dcterms:modified xsi:type="dcterms:W3CDTF">2008-10-12T11:23:10Z</dcterms:modified>
  <cp:revision>1</cp:revision>
  <dc:subject/>
  <dc:title>¿Qué es una Wiki?</dc:title>
</cp:coreProperties>
</file>